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5B5B-63DD-4B0A-8C5D-793EEF96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75A7-082A-49A5-8A99-7CD470E2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CBF8-6FC1-4978-B5AD-B94ACF7A7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F947-D331-4E60-BC13-51C4EF145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28B7E-D82D-4C11-868E-BB686FEBB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106C-4276-4D5D-821B-0ED88A220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C8F6-5D01-4AF3-9CAE-8A65E0405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BC9A-E4ED-4B2B-88F5-BE44E052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0FD2-D60C-4DDA-B7CD-E9C24FC9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86EF-E97F-4BEB-BD99-98ECD3D3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D51A-B94D-4394-B228-C0DCEDAB5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0222-5D9D-41F1-8E66-11AAF63E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D9D6-EA38-4456-B10E-B58FD501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F98F-A665-4D56-9634-4406253A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A747-79DA-4B1B-B1FD-6EF2FEE5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680B-0169-4135-AD56-11E7264B1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3555-0788-4D6E-9548-6BA7342E4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4174-F706-4A56-9847-C3F67ED7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693A-2F98-4BE2-AE3D-8C62DB82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1680-3716-49AD-B260-37CCED51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62D2-3DE4-4667-8FB5-30C9BD779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D70-09FD-4F67-9268-F5A8E71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2ACD-CD55-49D0-A9C3-E85FE5C0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5A7-4BBD-4A02-8BA1-4915C406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DDD2-DE54-4852-9AB6-EF95F6888C7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7B004-8EE0-4A8E-A097-5BA39788815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elcom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2361960"/>
            <a:ext cx="6400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are in two rooms toda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ease make sure you sign in and get a hando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switch rooms – so you will work with all of 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p 4:  Activit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exposure to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tivities allow interaction with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assif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tapho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alog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oots and affi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p 5: Discuss Term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 interaction is key to the development of vocabul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cuss te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se questions to stimulate discu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y issues or questions they have with ter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ir to discuss difficult terms and evaluate students’ descrip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p 6: Play Gam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eopard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abo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$10,000 Pyram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ry it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66320" y="3885840"/>
            <a:ext cx="76964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hoose a word from your content area.  How would you use steps 1-3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at do five of the six steps have in comm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139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The students are the ones doing the work – they are the ones processing the information . . .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ortfolio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 what you have learn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provide binder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view compon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estion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uzzle of Nin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e the rules – only two measu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in pai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Building Academic Vocabul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Tahoma"/>
              </a:rPr>
              <a:t>Six Steps to Effective Vocabulary Instruc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by Robert Marza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ord of the Day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Motsetsi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x Ste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a description, explanation or example of the new te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restate the explanation of the new term in their own wor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reate a Non-Linguistic Representation of the ter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x Step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ally, students do activities that help them add to knowledge of vocabulary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ally, students discuss terms with one anoth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iodically, students are involved in games that allow them to play with the ter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p 1:  Explain or Exampl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description of the term that includes all elements considered important to an accurate understanding of the 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THE DEFIN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ons are not useful instructional tools, especially in initial stages of learning a 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Step 2:  Students Restate Explanation in Own Word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must process information actively and repeatedly to store words in long-term mem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no good to copy the teacher’s definition or one from the boo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tate in their own words what has been presented about the new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tep 3:  Nonlingusitic Representation of Ter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st done immediately after students have generated their own linguistic descri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ave a “picture” in their head to associate with the wo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re processing of te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16:06:15Z</dcterms:created>
  <dc:creator>HISD</dc:creator>
  <dc:description/>
  <dc:language>en-US</dc:language>
  <cp:lastModifiedBy>HISD</cp:lastModifiedBy>
  <dcterms:modified xsi:type="dcterms:W3CDTF">2009-02-05T19:37:11Z</dcterms:modified>
  <cp:revision>4</cp:revision>
  <dc:subject/>
  <dc:title>Building Academic Vocabulary</dc:title>
</cp:coreProperties>
</file>